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0F2-DA55-4716-83CF-318E0CE9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B72-0AC4-4F59-9F6B-91C36DFA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722-1833-49A4-BEF9-0F426061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473-A868-4634-B306-D3468D11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1499-7F49-43B5-B92D-AB858671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91C-7138-4007-96B0-6E771812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530-E2DC-4FF0-A997-58EC152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F21-8DEB-48C0-8DBE-122D893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C684-C991-4764-AF0C-219A0F7D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B12-55ED-4552-A6D6-F95A9FE2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3C82-61E4-48C0-89E8-DB5A8D1E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A6D-D80B-4D18-A19F-28F9678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90BC-E4DB-42B0-9EF2-E12AA676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BF00-2DC2-4C61-BEB8-7C10D07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C44-291D-490D-A893-A06B536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15C1-1379-4076-A97C-6F3F4764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C8C9-B341-4540-8933-C62D576B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960-69BA-47F8-8F2B-EEE9666A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7D1-E262-47AF-8EB5-4D6CF13A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94C-F0CE-4359-8BAF-476F6EA2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1E6-1020-42AE-B5E8-6F1F4A9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CA2-7E79-4377-9A52-D76BB2A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23D-7EA3-4236-8A38-EB5D35E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EB1-C15C-4952-B8CA-D2AA814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E615-E3BF-464E-A35D-11E78D640B3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9700-555E-4875-8580-E9E8C504BFF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8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d3333"/>
                </a:solidFill>
                <a:latin typeface="Georgia"/>
              </a:rPr>
              <a:t>Антропогенез</a:t>
            </a:r>
            <a:endParaRPr b="0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70028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Доказательства происхождения человека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от животн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5714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Эмбриологические</a:t>
            </a:r>
            <a:br>
              <a:rPr sz="4600"/>
            </a:b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4000320" cy="47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8000" y="476280"/>
            <a:ext cx="5977080" cy="1224000"/>
          </a:xfrm>
          <a:prstGeom prst="roundRect">
            <a:avLst>
              <a:gd name="adj" fmla="val 50000"/>
            </a:avLst>
          </a:prstGeom>
          <a:solidFill>
            <a:srgbClr val="ce9964">
              <a:alpha val="9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Фактор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эволюции человек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781360"/>
            <a:ext cx="3600360" cy="143964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Био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2781360"/>
            <a:ext cx="3600720" cy="143964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Социаль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2920" y="1700280"/>
            <a:ext cx="934920" cy="1081080"/>
          </a:xfrm>
          <a:prstGeom prst="line">
            <a:avLst/>
          </a:prstGeom>
          <a:ln w="381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700280"/>
            <a:ext cx="936360" cy="1081080"/>
          </a:xfrm>
          <a:prstGeom prst="line">
            <a:avLst/>
          </a:prstGeom>
          <a:ln w="381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254" t="28974" r="1283" b="25908"/>
          <a:stretch/>
        </p:blipFill>
        <p:spPr>
          <a:xfrm>
            <a:off x="2050920" y="4581360"/>
            <a:ext cx="5545440" cy="192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те себя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акое значение в происхождении человека имело прямохождение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 каких районах Земли произошло появление рода Человек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чему австралопитеки не относятся к роду Человек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75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d3333"/>
                </a:solidFill>
                <a:latin typeface="Georgia"/>
              </a:rPr>
              <a:t>Домашнее задание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03728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62 – учить,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43 – повторить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5373720"/>
            <a:ext cx="22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000" y="2708280"/>
            <a:ext cx="8218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знакомиться с особенностями происхождения и развития человек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лучение новых знаний об антропогенезе, этапах эволюции человек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казать взаимосвязь биологических и социальных факторов антропогенез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делить основные этапы в эволюции человека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ссмотреть вопрос о происхождении рас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ить анализировать факты в определённой логической последовательности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имулировать развитие познавательного интереса к науке биологии и вопросу происхождения челове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456840"/>
            <a:ext cx="757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2000"/>
                </a:solidFill>
                <a:latin typeface="Georgia"/>
              </a:rPr>
              <a:t>Антропогенез -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148428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- процесс эволюционного происхождения и развития вида </a:t>
            </a:r>
            <a:r>
              <a:rPr b="0" i="1" lang="ru-RU" sz="3800" spc="-1" strike="noStrike">
                <a:solidFill>
                  <a:srgbClr val="573a1d"/>
                </a:solidFill>
                <a:latin typeface="Times New Roman"/>
              </a:rPr>
              <a:t>Человек разумный</a:t>
            </a: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573a1d"/>
                </a:solidFill>
                <a:latin typeface="Times New Roman"/>
              </a:rPr>
              <a:t>(Homo sapiens)</a:t>
            </a: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184720" cy="367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74851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Какие существуют доказательства эволюции?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4722840"/>
            <a:ext cx="195552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3640" y="549360"/>
            <a:ext cx="6193080" cy="1366920"/>
          </a:xfrm>
          <a:prstGeom prst="roundRect">
            <a:avLst>
              <a:gd name="adj" fmla="val 50000"/>
            </a:avLst>
          </a:prstGeom>
          <a:solidFill>
            <a:srgbClr val="ce9964">
              <a:alpha val="9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азательст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нтропогенез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068640"/>
            <a:ext cx="345780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Палеонт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4941720"/>
            <a:ext cx="431964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Сравнительн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анатом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068640"/>
            <a:ext cx="352908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Эмбри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1916280"/>
            <a:ext cx="0" cy="302544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00000" y="1916280"/>
            <a:ext cx="934920" cy="115236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916280"/>
            <a:ext cx="936720" cy="115236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61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Палеонтологические</a:t>
            </a:r>
            <a:br>
              <a:rPr sz="4600"/>
            </a:b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5060" t="68496" r="37533" b="3591"/>
          <a:stretch/>
        </p:blipFill>
        <p:spPr>
          <a:xfrm>
            <a:off x="1116000" y="3860640"/>
            <a:ext cx="4032360" cy="26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67358" t="2583" r="3626" b="42136"/>
          <a:stretch/>
        </p:blipFill>
        <p:spPr>
          <a:xfrm>
            <a:off x="5443560" y="1773360"/>
            <a:ext cx="3376440" cy="48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2921040" cy="200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24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Сравнительно-анатомические</a:t>
            </a:r>
            <a:br>
              <a:rPr sz="3500"/>
            </a:b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35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39641"/>
          <a:stretch/>
        </p:blipFill>
        <p:spPr>
          <a:xfrm>
            <a:off x="1042920" y="2997360"/>
            <a:ext cx="7704360" cy="310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94880" y="191628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562b"/>
                </a:solidFill>
                <a:latin typeface="Times New Roman"/>
              </a:rPr>
              <a:t>Рудимен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24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Сравнительно-анатомические</a:t>
            </a:r>
            <a:br>
              <a:rPr sz="3500"/>
            </a:b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35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94160" y="191628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562b"/>
                </a:solidFill>
                <a:latin typeface="Times New Roman"/>
              </a:rPr>
              <a:t>Атавизм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632720" cy="364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ьев П.А.</dc:creator>
  <dc:description/>
  <dc:language>en-US</dc:language>
  <cp:lastModifiedBy>Никита</cp:lastModifiedBy>
  <dcterms:modified xsi:type="dcterms:W3CDTF">2011-03-17T17:11:27Z</dcterms:modified>
  <cp:revision>13</cp:revision>
  <dc:subject/>
  <dc:title>Направления эволюции</dc:title>
</cp:coreProperties>
</file>